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0ED-50BF-435B-8955-46193B54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6F4-E9AA-4B0C-A500-4F7E8334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35D-1C6A-4016-9360-D732B3C2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890-0DEB-4B4E-BB21-621C798F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E0A-3E79-471C-91C6-D47E2CD7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645-EE4A-4EAC-AD96-C7964041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699-C588-4FF5-BAD7-83AA214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8BA-D86B-461E-8CC0-77D2211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09C-7D6F-442A-A714-E7E373C2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062-3EDB-47CD-B11C-AB90F74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2CB-C7F9-4718-AE94-A4718BE3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391-1DCF-4985-B9BB-4E37E6E2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600" y="112320"/>
            <a:ext cx="9078840" cy="398880"/>
          </a:xfrm>
          <a:prstGeom prst="rect">
            <a:avLst/>
          </a:prstGeom>
          <a:noFill/>
          <a:ln cap="rnd" w="7632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ff"/>
                </a:solidFill>
                <a:latin typeface="华文行楷"/>
                <a:ea typeface="华文行楷"/>
              </a:rPr>
              <a:t>第一章  绪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0" name="框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花4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花3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葉子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C3E5-8A1A-42F2-9FB0-CE8930240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27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一章  绪论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800" y="22093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1.1  微型计算机控制系统的组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1.2  微型计算机控制系统分类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1.3  微型计算机控制系统的发展趋势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操作指导控制系统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03560" y="57124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5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指导控制系统组成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直接数字控制系统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D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13320" y="6094080"/>
            <a:ext cx="25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-6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控制系统原理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003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1523880"/>
          <a:ext cx="4572000" cy="44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457200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计算机监督系统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监督系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ervisory Computer Contr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系统有两种不同的结构形式。一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调节器，另一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系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调节器控制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系统原理图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系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+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系统原理图，如下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76840" y="6171480"/>
            <a:ext cx="285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1-7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C+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模拟调节器控制系统原理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650880"/>
            <a:ext cx="8001000" cy="544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03520" y="6184800"/>
            <a:ext cx="31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-8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C+DCC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控制系统原理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分级计算机控制系统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级计算机控制系统是一个四级系统，各级计算机的功能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装置控制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车间监督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级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厂集中控制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企业管理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5410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9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级计算机控制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792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371600"/>
          <a:ext cx="6248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6248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9528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1．可编程控制器（</a:t>
            </a:r>
            <a:r>
              <a:rPr b="1" lang="en-US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PLC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2．采用新型的控制系统（集散控制系统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4" action="ppaction://hlinksldjump"/>
              </a:rPr>
              <a:t>3．人工智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5" action="ppaction://hlinksldjump"/>
              </a:rPr>
              <a:t>4．神经网络控制系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8380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3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微型计算机控制系统的发展趋势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可编程控制器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传统的继电器控制相比，具有如下一些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抗干扰能力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适应性好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编程直观、简单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功能完善，接口功能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采用新型的控制系统（集散控制系统） 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散控制系统是分散型综合控制系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Distributed Control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分散型微处理器控制系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Microprocessor Control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简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集散控制系统的组成框图。它以微型计算机为核心，把微型机、工业控制计算机、数据通信系统、显示操作装置、输入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通道、模拟仪表等有机地结合起来，采用组合组装式结构组成系统，为实现工程大系统的综合自动化创造了条件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193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1295280"/>
          <a:ext cx="6705360" cy="40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70536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853360" y="556020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散系统组成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型计算机控制系统是由计算机（工业控制计算机）和工业对象两大部分组成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出了按偏差进行控制的闭环控制系统框图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57920" y="58647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闭环控制系统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1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微型计算机控制系统的组成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7668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3809880"/>
          <a:ext cx="754380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754380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人工智能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工智能是用计算机模拟人类大脑的逻辑判断功能，其中具有代表性的两个尖端领域是专家系统和机器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谓专家系统即计算机专家咨询系统，是一个存储了大量专门知识的计算机程序系统。不同的专家系统将不同领域专家的知识，以适当的形式存放于计算机中。根据这些专家知识，专家系统可以对用户提出的问题做出判断和决策，以回答用户的咨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人是一种能模拟人类智能和肢体动作的装置，从本世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代微处理机问世以来，机器人便逐渐涉足于各工业生产领域和科学研究领域。目前已出现的机器人可以分为两类，工业机器人和智能机器人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．神经网络控制系统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国外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代掀起了神经网络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ural Networ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的研究和应用热潮，我国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代也开始了这方面的研究。由于神经网络的特点（大规模的并行处理和分布式的信息存储，良好的自适应性、自组织性和很强的学习功能、联想功能及容错功能），使它的应用越来越广泛，其中一个重要的方面是智能控制，包含机器人控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NK YOU VERY MUCH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endshow"/>
          </p:cNvPr>
          <p:cNvSpPr/>
          <p:nvPr/>
        </p:nvSpPr>
        <p:spPr>
          <a:xfrm>
            <a:off x="548172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给出了开环控制系统框图。它与闭环控制系统不同，它的控制器直接根据给定信号去控制被控对象工作。被控制量在整个控制过程中对控制量不产生影响。与闭环控制系统相比，它的控制性能较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57920" y="563616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环控制系统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9072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4191120"/>
          <a:ext cx="815328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191120"/>
                    <a:ext cx="81532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把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控制器用微型计算机来代替，就可以构成微型计算机控制系统，其基本框图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在微型计算机控制系统中，只要运用各种指令，就能编出符合某种控制规律的程序。微处理器执行这样的程序，就能实现对被控参数的控制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2320" y="563616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机控制系统基本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804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3657600"/>
          <a:ext cx="8001000" cy="17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657600"/>
                    <a:ext cx="80010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硬件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型计算机控制系统的硬件一般是由微型计算机、外部设备、输入输出通道和操作台等组成，如下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48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048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371600"/>
          <a:ext cx="754380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54380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646360" y="57124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-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微型计算机控制系统原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硬件组成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240" y="21337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微型计算机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外部设备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输出通道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操作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．计算机控制系统的软件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软件是指能完成各种功能的计算机程序的总和。它是微型计算机控制系统的神经中枢，整个系统的工作都是在程序的指挥下进行协调工作的。软件通常分为两大类：一类是系统软件，另一类是应用软件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96360" y="6284520"/>
            <a:ext cx="79020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2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微型计算机控制系统分类 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1．操作指导控制系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2．直接数字控制系统（</a:t>
            </a:r>
            <a:r>
              <a:rPr b="1" lang="en-US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DDC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4" action="ppaction://hlinksldjump"/>
              </a:rPr>
              <a:t>3．计算机监督系统（</a:t>
            </a:r>
            <a:r>
              <a:rPr b="1" lang="en-US" sz="2800" spc="-1" strike="noStrike" u="sng">
                <a:solidFill>
                  <a:srgbClr val="00cc66"/>
                </a:solidFill>
                <a:uFillTx/>
                <a:latin typeface="Times New Roman"/>
                <a:hlinkClick r:id="rId5" action="ppaction://hlinksldjump"/>
              </a:rPr>
              <a:t>SCC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6" action="ppaction://hlinksldjump"/>
              </a:rPr>
              <a:t>4．分级计算机控制系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80360" y="6322680"/>
            <a:ext cx="1095120" cy="398880"/>
          </a:xfrm>
          <a:prstGeom prst="rect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66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4:02:10Z</dcterms:created>
  <dc:creator>新人电脑</dc:creator>
  <dc:description/>
  <dc:language>en-US</dc:language>
  <cp:lastModifiedBy>li</cp:lastModifiedBy>
  <dcterms:modified xsi:type="dcterms:W3CDTF">2002-02-01T06:12:30Z</dcterms:modified>
  <cp:revision>24</cp:revision>
  <dc:subject/>
  <dc:title>第一章  绪论 </dc:title>
</cp:coreProperties>
</file>